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9.pct" ContentType="image/x-pict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16A-2396-4A4C-9D20-57698302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F1A-9F98-453A-85FC-FCE6FEA0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472E9-0594-4F6E-A1D3-BADB8249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D36DF-7EC4-4780-BB39-1EC8F7C1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834F8-137F-463E-8624-8E4E7FAF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AEC0F-85E7-4810-9EF9-C74B4A5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4C1BF-204A-4BAD-8F5F-25B1F539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8B93D-8BBA-46C2-B6E0-E045D90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C57B-C3B4-40AE-B490-36F213F9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94CB8-C2AB-4945-8339-90C85B91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F7984-8AD5-4032-A40D-AB79F179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4C193-8AA5-4727-84C1-65AFFA7D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7E1-EF64-4E00-AFC8-E9C267F6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4B638-B503-47CB-8A55-2F85FC31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5DD82-2D0A-4DDF-BA83-687890CA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D1C4B-EB6E-4C34-A7A8-55D5218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16545-7575-43E0-906D-2FF7622D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331AE-097E-4976-A47A-15CD4CC2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39ABB-3A67-4684-AAFE-5B972AB0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75CA9-B2ED-42BF-A13A-E298274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CF698-07E0-424A-897D-FD0C1056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332A9-0D86-4468-A1ED-82C13457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A5268-AFC0-4121-9FDA-6A482D3B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86A-C779-4DD9-9B8D-FF05E1E3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6119E-0B77-4568-846F-28107317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136DE-868D-4D86-AE28-633AF758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9A30D-72FD-4889-892E-FDC01EAB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6BF9B-7879-4EB2-89E1-461AE3FA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4A9E7-7615-4534-8947-4F0F386C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D2C04-DF9D-4E55-82C8-A50F8AE4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94BEB-BA2C-49AB-8235-D34DF1FD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7325A-A5E7-431B-8587-5EAACF04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37FD1-887E-4FB1-BE04-BA743B4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EA90D-6690-4DBB-80E5-454FD481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B1E3-56DB-47C5-8C11-865DC594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46970-E6E0-43A8-B4EA-8E1A87CF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A8A46-736B-46E3-9C10-5D98245D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074B1-91E8-4BDE-8B74-D0DB92F3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3540A-0F72-469D-91B7-80AAB5FB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EB2F6-55EB-4E73-B93E-1BBF707C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D316B-1DC1-42D2-B033-2D25E60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5777A-13D4-43CF-8116-DEDFB6D5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B6DED-C648-4862-B986-87E66663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31435-E7B0-4109-9322-8A044104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46731-9254-4A48-987B-B913BCE0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D433-34BF-43C7-8D4E-1DC21C3B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2903E-9BA0-4F3F-864D-036A82BB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3E270-0593-4D72-9853-D879ED5B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A887C-B4AF-4A39-A55A-C92B10C7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0FE34-2878-46BA-99D0-16AAE3D3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45CBB-3AAB-49E3-8F04-D80649DC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614DA-A18C-4BE8-9577-9A1EAF54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AE03D-ABBB-41A7-A0F3-24C96738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7C95C-9E8C-4C20-A632-EF4FCF5A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7610C-312B-4A1C-90C1-CCCA5517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02CEA-E371-4325-A6BA-F4990A05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184F-6184-4DF9-8E79-9485F1A8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B6CA8-8683-451A-86CF-B276700C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0D90D-DCB8-46C3-93AE-05E4B5A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C76C9-AEDF-4872-8D0F-85D9A6BB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51109-FE2C-4899-81FF-3C043E49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66636-BDB4-431E-BBA1-BFE73629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DD950-BDBE-429A-9F4D-7C510500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F8323-DE2B-430F-9BA6-CA4FBBB2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9D1C8-43C2-402B-A1AB-9F143B0D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BBAB9-7201-41D9-A3BD-156DAFAC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9F538-EC9F-4632-B106-F87E433F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0CEB-6A96-41D6-A52F-8C0CFE69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ADF87-61FC-4D39-9505-BA7B24A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86CFF-9CA0-4F6E-A9FA-4D215C51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EAD3D-52CF-4DED-9F59-07BA00DC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3EB79-C413-4FF9-97DF-7D76149B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48A2B-951D-4851-B6FA-B5FEAB2A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E37B0-EDB9-4807-80F4-5FEDD83C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7AE68-BC85-48F1-97FF-949A7458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436B0-D883-4E1F-9C06-35AA3192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8F79D-F1C8-4E3C-9A20-CC72EB77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FE7DF-CC2E-4E27-8C51-70908682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6BF0-75D5-4F68-B286-8DB1B932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DB22E-294E-4206-8DC3-093D509F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7A2B3-C7DE-42FC-8CE0-EF14BFE4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FBD2C-B531-4E61-9042-3D204563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12406-D904-4D98-B4C1-F1D16712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0E8B0-9C97-47E1-ADCB-BB3BB1DC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E1251-72B9-4C6C-8A2F-51DDC264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3A355-9A01-450E-BAF9-A678B4D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DEC41-E1A5-45F5-A844-F9A23BA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FE021-E054-451D-87BF-0FA600F8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E31DC-8360-4D88-BF87-1870B38A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B06D-CA27-497B-8025-02A19E20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207EFC-B6B7-48E9-82AB-A81E4333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5338-B2A2-4B92-9749-6FB1C91A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B79-417F-4045-8CE7-3EE5574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E82B-DB89-4327-A347-B91B1DF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909C-C01F-4A38-AEFF-C7E5D842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54D3-E253-4E0A-BDB5-EBB8FCF8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AD95-C48D-4B67-9EE3-1F8171DE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A4FD-AE47-4859-9B9F-EFEE5AAF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CF43-44B6-481E-B193-E42CB369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622E-FC74-4D20-9469-E5BF0D1B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74CF-40DE-40A9-8432-FAC90239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906F-C17F-4848-8C41-D9918176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28BC-494E-46CC-B1CE-E1F28C09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294-AF40-4F51-AB99-334FEEB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516C-01E4-43F3-AD4D-43ACC44F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C385-C0ED-4D2C-8864-F77E53C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6721-7F4E-49F7-91C6-33472B3E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290F-B88A-4C6C-AB1B-16D8FCFF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7683-19DA-4B61-A407-87CAA962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F09B-FAFA-44B3-A8F9-B5D5C4CD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E5B6-7D41-4F6E-91D0-96B548A9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34B11-7DEE-47FC-95F0-E4E7FB15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4CFF-572F-4DB7-B964-512EB330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57A31-3D7D-4266-A4D4-F7CE51DE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F75-3007-464F-89BE-8F6F2958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381C-2DF1-470C-A705-B37ADEEE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9E3E-1033-4536-8C25-AF15BB12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18E6-A73C-4A92-BDDA-A6759CDE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2F6CF-A755-49C8-8B51-3E5FC4F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A9D5-4989-4159-A1F3-372ED3B0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6685-27F7-44CF-9CCF-C40EA191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94FE9-A635-4774-89B2-3635379C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98B1-94E8-4A9B-A446-85AD3FA5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6BD8-4DCA-40CE-830C-F871A2ED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2D066-FA9C-49FC-B140-20793BF3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2A8-54AE-44A0-AD32-A343A384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CB616-6D78-471C-AF0D-5F6EC3C4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6C8C9-4C2D-4076-952B-476EDE53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3607-9319-404E-B808-CC5FCA39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8516-8819-461F-B53B-108586DC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84A3-5248-410D-9DAB-2B8CB5E9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A08EF-8380-4B95-856D-EB6C89D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D5FF3-0E3B-4850-82B4-519AC6BB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4F350-2280-431F-B544-B0393AD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FEDA-8461-47E8-8D41-50CFA9E8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C5A24-463E-431C-850F-0DFBD540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9FA-B1BA-491B-9FB3-1D7F0D34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D9B8-43C0-4B5F-97FF-BF8263B6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3E2D1-DF47-4ED0-B871-E3ED4D86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39C8-B1EB-42CC-A8AF-7B7354B0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A3782-A7C2-4702-B5D0-9A644B9C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042F0-D345-4EB8-B9C1-1A0A41E1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7B0FC-26CC-4DD2-AD2C-DBD95932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687D3-1BDD-47E6-AD57-942F47FC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EDD90-46A5-4D16-8856-0A99B2F0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F17CE-277F-40B1-BC4B-C11A0FD5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F9AF-4381-404E-AE36-96CFA16C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C6B-55DF-428C-8B2B-D2461A51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6803A-4989-4B39-B229-B3208E82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1FF24-0A78-4802-9805-5DC96818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85142-17BF-43BF-A149-5BF21B2D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61C5E-F0B3-4638-88BB-0D9AAD42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970F7-8639-49C6-B60E-A0FB1DFB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109B-0062-4E43-B715-7453C089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B84E6-E357-485E-85C8-035E93BA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67D6-2EA2-45D2-846C-B2B4170C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0F252-9F58-4887-A43D-6D8E27EF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0C2C5-3211-4792-A9F4-6863FDFD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AF8-52EC-450A-B91D-A26B936F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54E73-87FC-469F-AF0E-882BB44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09BFE-DF4F-449F-9306-897D921E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A0DD1-4785-480D-9D25-4E9421C7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C61D-4408-4534-809E-01683EDB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E14A1-70D3-4043-A1AD-080CADBB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D3FBB-6998-4D34-8397-3EDD1D65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8A2D2-A69A-4BD6-B165-469AA7F0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A38ED-4EA3-484A-8800-60E8F97E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DEF90-274A-4B2C-A66E-97E1E88C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3826F-214E-4929-9179-199B7C53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16E-415D-4B65-A562-08F40BA7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6FB26-12C6-401B-9955-BB5FD9B9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6F3CB-BB19-4377-AD99-4E1C01AA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68E53-B3E7-44F5-96B8-E2F4518F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75D42-A83F-4EE8-BAC1-CAB03C81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C5E2A-B5C5-4EAC-8CF6-903374D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D7A51-4D5C-4C38-A38C-2681BB04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F098A-BB9F-4BB0-951B-272ECC6A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F2C7C-9BEB-43F5-8CA2-B402B9DB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53BD9-3B17-4F39-B583-05A0D39C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554C9-25CC-4760-A5D1-2D781AF8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3F9E0-DD79-495E-8696-B23940B22496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EF12D-C197-45D9-84E8-4BFF90E8E53C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030FD-827B-48E6-8AD9-75FFCF3FAB0E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46DBA-0E54-4E30-90EC-2E055FCA67D3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A5C28-203C-4F05-B06E-EAD4DDE52539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5BFE4-C38A-4DB5-BF95-CD66E8F9DFFB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38B28-44D7-4CF9-B139-F80BEC9C57B3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2B070-7AF1-482F-8062-47EF50AE83D6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B7639-61F3-4D1A-8D7F-A2CB7389C1ED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2131-467E-4C6A-8867-8EDACA9B9A60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7763A-CC27-4BBE-BA9B-E1DAF5D25FB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63593-8DD6-4A67-A7A6-52D42334A59D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810DA-7AE5-4A73-B450-8E6A52C009C7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8A9EE-2235-4A00-AC3B-766B38C93725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AB533-1D5A-4EBD-AD92-0CEBE22036AD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ABFE3-25BE-4B9A-B942-E273AC803244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6564E-CECF-4EF8-B907-C0A53393BCAA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084A8-219D-439E-BEB5-AAB751FDA14C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8170B-F114-4961-9CEE-39280F95F963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99ECB-E0B0-401A-BB53-AA4B8B566F26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B9485-D033-4C08-9185-7FDDE5730814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502C8-DDCF-4562-BB49-C5C02A3BE62E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06E01-2F1F-47C6-894C-C3F7C910FFE5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83D82-25A3-46CB-BD67-6C6B79D8D301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D16C5-F0D4-4CE0-99FD-D0AAA4FC93E2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1C7F0-FFDD-48D1-8A38-062E70042DBD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7FDA9-6BFA-43F0-843F-5EF8128DF08D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58FA1-DB03-4A92-BA33-4B66786F571E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1320" y="1676160"/>
            <a:ext cx="8001000" cy="24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Filmmaking in the Classroom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71320" y="4419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nn Riding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chool Technology Specialist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Granite School District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UCET 2009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sto MT"/>
              </a:rPr>
              <a:t>Why have you produced videos with your students?</a:t>
            </a:r>
            <a:endParaRPr b="0" lang="en-US" sz="49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ore Curriculum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anguage Ar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31960" indent="-4158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Reading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31960" indent="-4158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Writing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ibrary Med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ocial Studi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Everything!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31960" indent="-4158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22096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2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sto MT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 Century Skill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nking and Problem Solving Skills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Interpersonal and Self-Directional Skills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Learning and Innovation Skills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Information, Media and Technology Skills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6668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Project Idea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028520" y="19051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PSA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Documentaries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Personal Essay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Instructional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Interviews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Stop Motion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And….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6:04:44Z</dcterms:created>
  <dc:creator>Ann Riding</dc:creator>
  <dc:description/>
  <dc:language>en-US</dc:language>
  <cp:lastModifiedBy>Ann Riding</cp:lastModifiedBy>
  <dcterms:modified xsi:type="dcterms:W3CDTF">2009-03-06T06:36:38Z</dcterms:modified>
  <cp:revision>3</cp:revision>
  <dc:subject/>
  <dc:title>Multimedia in the Classroom</dc:title>
</cp:coreProperties>
</file>